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72B3-C026-4D20-A842-3E788B4C189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FC30-315D-46BD-BFE8-F284E2E7BC4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1736-7047-4528-BF55-8A40680A02A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D00E-A36E-485F-A64C-25E4A597891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ACED-BC5E-435C-96BD-F8E1AA38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678-73E2-4AED-9498-1C35C250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CE25-CEB8-40A4-B3B6-071ED075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9FC5-AFA7-4FAA-A605-32BD9484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8E4-65E3-4B4F-9097-04DF5703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CFD5-C11B-4DAB-BE77-CEB79AD2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CB94-A304-439E-B81C-C3F7688A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FB3C-D8AE-4F42-AA8E-491BAFFE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52A-50C6-49AF-A8A1-98A407CB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FADC-028A-47BC-B287-DE778AC8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DEA2-4D50-496E-A7F1-EBE67BB1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5D14-8CD0-49A5-962A-B47AEF72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5B17-4C95-46A5-82D4-94959CD4B98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971800" y="9907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MPE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295280" y="2341440"/>
            <a:ext cx="175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uste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048120" y="2041560"/>
            <a:ext cx="1218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O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om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om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om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om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143760" y="2028960"/>
            <a:ext cx="1066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SUB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572000" y="2021040"/>
            <a:ext cx="1219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B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41148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MAS IRREG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200400" y="156384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MAS REG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33"/>
          <p:cNvGrpSpPr/>
          <p:nvPr/>
        </p:nvGrpSpPr>
        <p:grpSpPr>
          <a:xfrm>
            <a:off x="1404360" y="4572000"/>
            <a:ext cx="6822720" cy="307080"/>
            <a:chOff x="1404360" y="4572000"/>
            <a:chExt cx="6822720" cy="307080"/>
          </a:xfrm>
        </p:grpSpPr>
        <p:sp>
          <p:nvSpPr>
            <p:cNvPr id="56" name="Rectangle 16"/>
            <p:cNvSpPr/>
            <p:nvPr/>
          </p:nvSpPr>
          <p:spPr>
            <a:xfrm>
              <a:off x="1404360" y="457200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PO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7"/>
            <p:cNvSpPr/>
            <p:nvPr/>
          </p:nvSpPr>
          <p:spPr>
            <a:xfrm>
              <a:off x="2407680" y="45720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8"/>
            <p:cNvSpPr/>
            <p:nvPr/>
          </p:nvSpPr>
          <p:spPr>
            <a:xfrm>
              <a:off x="3157200" y="457200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9"/>
            <p:cNvSpPr/>
            <p:nvPr/>
          </p:nvSpPr>
          <p:spPr>
            <a:xfrm>
              <a:off x="3742560" y="457200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DEC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0"/>
            <p:cNvSpPr/>
            <p:nvPr/>
          </p:nvSpPr>
          <p:spPr>
            <a:xfrm>
              <a:off x="4646160" y="4572000"/>
              <a:ext cx="69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SAL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1"/>
            <p:cNvSpPr/>
            <p:nvPr/>
          </p:nvSpPr>
          <p:spPr>
            <a:xfrm>
              <a:off x="5579280" y="4572000"/>
              <a:ext cx="72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VEN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2"/>
            <p:cNvSpPr/>
            <p:nvPr/>
          </p:nvSpPr>
          <p:spPr>
            <a:xfrm>
              <a:off x="6453720" y="457200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TE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3"/>
            <p:cNvSpPr/>
            <p:nvPr/>
          </p:nvSpPr>
          <p:spPr>
            <a:xfrm>
              <a:off x="7424640" y="4572000"/>
              <a:ext cx="80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HA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24"/>
          <p:cNvSpPr/>
          <p:nvPr/>
        </p:nvSpPr>
        <p:spPr>
          <a:xfrm>
            <a:off x="1557360" y="48769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2491560" y="487692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3156840" y="487692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7"/>
          <p:cNvSpPr/>
          <p:nvPr/>
        </p:nvSpPr>
        <p:spPr>
          <a:xfrm>
            <a:off x="3948120" y="487692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8"/>
          <p:cNvSpPr/>
          <p:nvPr/>
        </p:nvSpPr>
        <p:spPr>
          <a:xfrm>
            <a:off x="4793400" y="487692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9"/>
          <p:cNvSpPr/>
          <p:nvPr/>
        </p:nvSpPr>
        <p:spPr>
          <a:xfrm>
            <a:off x="5716440" y="48769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0"/>
          <p:cNvSpPr/>
          <p:nvPr/>
        </p:nvSpPr>
        <p:spPr>
          <a:xfrm>
            <a:off x="6662520" y="48769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1"/>
          <p:cNvSpPr/>
          <p:nvPr/>
        </p:nvSpPr>
        <p:spPr>
          <a:xfrm>
            <a:off x="7600680" y="48769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2"/>
          <p:cNvSpPr/>
          <p:nvPr/>
        </p:nvSpPr>
        <p:spPr>
          <a:xfrm>
            <a:off x="855000" y="48769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457200" y="1523880"/>
            <a:ext cx="769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pronombres OD, OI y reflexivos (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) se pon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trás del verbo en Imperativo, formando una sola palab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361600" y="990720"/>
            <a:ext cx="49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IMPERATIVO Y LOS PRONOM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068480" y="559440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¿Puedo llevarme estas fotos?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Sí, pero luego devuélve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ela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64520" y="214956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iradlo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, allí está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930400" y="2149560"/>
            <a:ext cx="198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asa, pasa y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siéntat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5194080" y="2149560"/>
            <a:ext cx="18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Dam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ese periód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444960" y="2754360"/>
            <a:ext cx="60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 unir un pronombre al Imperativo se producen algunas modific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851760" y="3124080"/>
            <a:ext cx="512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parece una tilde cuando la palabra se convierte en esdrúju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1068480" y="350532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M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2118240" y="3505320"/>
            <a:ext cx="177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írat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en el espe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856080" y="4006800"/>
            <a:ext cx="387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pierde la 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final delante del pronombre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1068120" y="440388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Mi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2071080" y="440388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irao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en el espe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438480" y="4959360"/>
            <a:ext cx="822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i hay dos pronombres, el orden es OI + OD. Cuando los dos pronombres son de tercera person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se convierten en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3882600" y="5594400"/>
            <a:ext cx="251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¿Quieres estos document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No, dá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selo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a Ju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164448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0"/>
          <p:cNvSpPr/>
          <p:nvPr/>
        </p:nvSpPr>
        <p:spPr>
          <a:xfrm>
            <a:off x="1752480" y="457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4" name="camera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831960" y="1676520"/>
            <a:ext cx="26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frecer cosas o para invit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63440" y="2017800"/>
            <a:ext cx="24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Tom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un poco más de caf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834840" y="2695680"/>
            <a:ext cx="179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ar instruc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057320" y="3060720"/>
            <a:ext cx="46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¿Para llamar por teléfono al extranjer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arc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primero el 00 y luego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arc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el prefijo del paí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830880" y="3778200"/>
            <a:ext cx="412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ar órdenes y pedir que los demás hagan al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062000" y="4138560"/>
            <a:ext cx="241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Llam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al Director, por fav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837360" y="5073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ar permi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061640" y="5425920"/>
            <a:ext cx="35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¿Puedo llamar por teléfono desde aquí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Sí, claro.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Llam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llam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3200760" y="998640"/>
            <a:ext cx="31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SOS DEL IMPE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1063440" y="2265480"/>
            <a:ext cx="24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Pont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un poco más de sop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1062000" y="4398840"/>
            <a:ext cx="284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or favor,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dígal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que he llam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1061280" y="4648320"/>
            <a:ext cx="32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arlos, guapo,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ayúdam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a llevar 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9" name="camera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16:13:29Z</dcterms:created>
  <dc:creator>USER</dc:creator>
  <dc:description/>
  <dc:language>en-US</dc:language>
  <cp:lastModifiedBy>Susana</cp:lastModifiedBy>
  <cp:lastPrinted>2007-06-19T14:16:16Z</cp:lastPrinted>
  <dcterms:modified xsi:type="dcterms:W3CDTF">2015-07-01T12:31:37Z</dcterms:modified>
  <cp:revision>77</cp:revision>
  <dc:subject/>
  <dc:title>Παρουσίαση του PowerPoint</dc:title>
</cp:coreProperties>
</file>